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8DA4-137A-4161-9825-6DFD0C13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0A3-1552-49F7-B56F-B0BF5526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742-590C-4CFA-907F-13EEF733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32B-8BEA-4E45-BD32-61CA1CDE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315-69C9-45A0-AED3-0654359D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4E0-537B-4D23-926A-D1ECDBF2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4BE-CA85-44FD-A79B-83CA9B70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843-B5B2-45F5-B969-DE446C52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5F1-27FC-4570-A886-EFD93A6D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AC8-E697-4AA8-9019-31DA20BA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138-F57E-47F9-84AA-007C8682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0AF-4FFF-4706-A683-6E4F63F6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C647-0879-4090-A801-3E12E0BE4EC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00"/>
          <p:cNvSpPr txBox="1"/>
          <p:nvPr/>
        </p:nvSpPr>
        <p:spPr>
          <a:xfrm>
            <a:off x="642960" y="352440"/>
            <a:ext cx="44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 Definitiv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00080" y="1071720"/>
          <a:ext cx="3929040" cy="5013000"/>
        </p:xfrm>
        <a:graphic>
          <a:graphicData uri="http://schemas.openxmlformats.org/drawingml/2006/table">
            <a:tbl>
              <a:tblPr/>
              <a:tblGrid>
                <a:gridCol w="2214720"/>
                <a:gridCol w="1000080"/>
                <a:gridCol w="71424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32.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41.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0.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.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19.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87.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5 Gráfico" descr=""/>
          <p:cNvPicPr/>
          <p:nvPr/>
        </p:nvPicPr>
        <p:blipFill>
          <a:blip r:embed="rId2"/>
          <a:stretch/>
        </p:blipFill>
        <p:spPr>
          <a:xfrm>
            <a:off x="5065560" y="1279440"/>
            <a:ext cx="37972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9"/>
          <p:cNvSpPr txBox="1"/>
          <p:nvPr/>
        </p:nvSpPr>
        <p:spPr>
          <a:xfrm>
            <a:off x="357120" y="379440"/>
            <a:ext cx="42861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lanific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n la gestión territori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77" name="7 Gráfico" descr=""/>
          <p:cNvPicPr/>
          <p:nvPr/>
        </p:nvPicPr>
        <p:blipFill>
          <a:blip r:embed="rId2"/>
          <a:stretch/>
        </p:blipFill>
        <p:spPr>
          <a:xfrm>
            <a:off x="1176480" y="1414440"/>
            <a:ext cx="64371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393840" y="379440"/>
            <a:ext cx="5607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nocimiento, Conservación y Us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Sostenible de los RN y la Biodiversidad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1" name="9 Gráfico" descr=""/>
          <p:cNvPicPr/>
          <p:nvPr/>
        </p:nvPicPr>
        <p:blipFill>
          <a:blip r:embed="rId2"/>
          <a:stretch/>
        </p:blipFill>
        <p:spPr>
          <a:xfrm>
            <a:off x="993600" y="1566720"/>
            <a:ext cx="66564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0"/>
          <p:cNvSpPr txBox="1"/>
          <p:nvPr/>
        </p:nvSpPr>
        <p:spPr>
          <a:xfrm>
            <a:off x="395280" y="379440"/>
            <a:ext cx="52484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omoción de Procesos Productiv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mpetitivos y Sostenible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5" name="10 Gráfico" descr=""/>
          <p:cNvPicPr/>
          <p:nvPr/>
        </p:nvPicPr>
        <p:blipFill>
          <a:blip r:embed="rId2"/>
          <a:stretch/>
        </p:blipFill>
        <p:spPr>
          <a:xfrm>
            <a:off x="1066680" y="1352520"/>
            <a:ext cx="66564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466560" y="379440"/>
            <a:ext cx="46771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vención y Control de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egrad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9" name="11 Gráfico" descr=""/>
          <p:cNvPicPr/>
          <p:nvPr/>
        </p:nvPicPr>
        <p:blipFill>
          <a:blip r:embed="rId2"/>
          <a:stretch/>
        </p:blipFill>
        <p:spPr>
          <a:xfrm>
            <a:off x="853920" y="1279440"/>
            <a:ext cx="68691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395280" y="379440"/>
            <a:ext cx="51055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ortalecimiento del SINA para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obernabilidad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93" name="12 Gráfico" descr=""/>
          <p:cNvPicPr/>
          <p:nvPr/>
        </p:nvPicPr>
        <p:blipFill>
          <a:blip r:embed="rId2"/>
          <a:stretch/>
        </p:blipFill>
        <p:spPr>
          <a:xfrm>
            <a:off x="993600" y="1352520"/>
            <a:ext cx="6797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Presupuestal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09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500040" y="136692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09 guardó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546120" y="379440"/>
            <a:ext cx="302580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Ejecución del Presupuesto de Ingresos de la Entidad para la Vigencia Fiscal 2009 ascendió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00.467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58920" y="2571840"/>
          <a:ext cx="6626160" cy="268272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ción por Valor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977.8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5.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53.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25.6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12.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00.4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58" name="1 Gráfico" descr=""/>
          <p:cNvPicPr/>
          <p:nvPr/>
        </p:nvPicPr>
        <p:blipFill>
          <a:blip r:embed="rId2"/>
          <a:stretch/>
        </p:blipFill>
        <p:spPr>
          <a:xfrm>
            <a:off x="920880" y="1206360"/>
            <a:ext cx="694368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387360" y="379440"/>
            <a:ext cx="5113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istrib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46200" y="1143000"/>
          <a:ext cx="5113440" cy="1676520"/>
        </p:xfrm>
        <a:graphic>
          <a:graphicData uri="http://schemas.openxmlformats.org/drawingml/2006/table">
            <a:tbl>
              <a:tblPr/>
              <a:tblGrid>
                <a:gridCol w="2233800"/>
                <a:gridCol w="1942920"/>
                <a:gridCol w="936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43.9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9.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299.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2 Gráfico" descr=""/>
          <p:cNvPicPr/>
          <p:nvPr/>
        </p:nvPicPr>
        <p:blipFill>
          <a:blip r:embed="rId2"/>
          <a:stretch/>
        </p:blipFill>
        <p:spPr>
          <a:xfrm>
            <a:off x="1779480" y="2992320"/>
            <a:ext cx="46576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316080" y="379440"/>
            <a:ext cx="511308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4240" y="1143000"/>
          <a:ext cx="7358040" cy="2055960"/>
        </p:xfrm>
        <a:graphic>
          <a:graphicData uri="http://schemas.openxmlformats.org/drawingml/2006/table">
            <a:tbl>
              <a:tblPr/>
              <a:tblGrid>
                <a:gridCol w="3214800"/>
                <a:gridCol w="2795760"/>
                <a:gridCol w="1347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omi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08.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5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120.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82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503.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61.3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4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7223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0:51Z</dcterms:modified>
  <cp:revision>6</cp:revision>
  <dc:subject/>
  <dc:title>Diapositiva 1</dc:title>
</cp:coreProperties>
</file>